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E1D-D123-40C6-9E6F-2FBAE1BA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7E4-12A9-4D88-AEDD-F442F8ED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838-34C5-4B57-ABD6-40F0AA2A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0ED-7413-4F3B-808F-15480C67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98A-39AC-44D9-B31D-5830BC50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403-CD62-47F8-8AB0-0C30910E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989-A56A-4E3E-A996-23367C13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18E-327E-49A5-AC40-3D4FDCD9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C0F-0614-478E-B749-03A519A7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5D1-793F-4122-83FF-B8988078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BA9-47D1-40B7-A7D1-D1CAA27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9ED-FA06-46B0-ABC3-D91EDDB1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C22D-94BC-46FA-9777-EE64F3931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Big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T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QUESTION of the WEE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for January 11 - 15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362240" cy="1047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16765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volcano is a mountain that opens dow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d to a pool of molten (or melted) roc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pressure builds up, the volc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upts. What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d scientists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the time whe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cano is asl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40080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ogle Images,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3489480"/>
            <a:ext cx="40384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1:52:30Z</dcterms:created>
  <dc:creator>Brian Hite</dc:creator>
  <dc:description/>
  <dc:language>en-US</dc:language>
  <cp:lastModifiedBy>Brian Hite</cp:lastModifiedBy>
  <cp:lastPrinted>2009-10-05T01:42:40Z</cp:lastPrinted>
  <dcterms:modified xsi:type="dcterms:W3CDTF">2010-01-11T11:09:48Z</dcterms:modified>
  <cp:revision>80</cp:revision>
  <dc:subject/>
  <dc:title>                 The Big6TM QUESTION of the WEEK              for September 15 - 19, 2008</dc:title>
</cp:coreProperties>
</file>